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3A1-0609-495C-8684-07BC8252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B70-D975-4978-A1D5-55BFFC49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9AF-2CF0-4A18-89F0-E12F1589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3F8-8271-4491-995F-8EE7FBB7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893D-D4A1-4B9C-90E9-9CE03BC5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DC7-0687-47BC-9EF8-F92B15C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638-DBE6-4219-B93C-1AE7FF4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02C-398A-4BF3-AB2E-BFE0315B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963-4473-42AF-9829-3BD407D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D413-1578-4BBF-9665-3A4EF7C2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A83-CE44-4EF2-A273-40215EA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D01-E169-471A-871B-A3606E2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68C2-0AF0-4CAE-A162-BDB2D3A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C9D1-4A95-47C1-BBC0-A6A440F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E45-73BC-4EBC-AC87-851BB2D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BACB-8B9C-4FF7-8E31-DC4AC54B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EFC-4598-48D8-8744-6EFD7CA9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4A2-0A79-4BF1-B1FB-50D9213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B35-6A78-4199-BFA9-B5205C0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DB7-8BA9-40D4-9B58-8B3E13E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021-19D8-4A30-859E-13EDA4E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910-50E3-44D2-89DC-48EC4AE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2E4-7C4B-4DFC-B577-FAC229E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E37-779D-4B00-909F-2ED78EB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3837-47BD-41AF-BE77-EB65B3277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651-567B-4133-A002-E30B3205E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Library &amp; Research Skills Proficiency: 5th Grad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a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esley Public 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24,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82960" y="1793880"/>
            <a:ext cx="4806720" cy="50641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4149720" cy="606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2895840" cy="3733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What do you like most about your school library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622680"/>
            <a:ext cx="4433760" cy="323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68760" y="152280"/>
            <a:ext cx="4575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akeaway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highly value their school librarians for their knowledge, helpfulness and approach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ppreciate free and frequent access to books and  a wide variety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enjoy interactivity: writing book reviews in the catalog and b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n, well-organized space with clearly-defined areas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ppreciate using technology: smartboards, laptops, ipads and online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79520" y="2057400"/>
            <a:ext cx="4584960" cy="393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497844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90920" y="4495680"/>
            <a:ext cx="5029200" cy="1803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The most important thing learned in library?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66920" y="2286000"/>
            <a:ext cx="461016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85800" y="4952880"/>
            <a:ext cx="7467480" cy="1191240"/>
          </a:xfrm>
          <a:prstGeom prst="rect">
            <a:avLst/>
          </a:prstGeom>
          <a:solidFill>
            <a:srgbClr val="e8e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Takeaway: Students find value in each aspect of what 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set the familiarity of students with our libraries with expectations for maintaining their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students to create bibliographies, even when their teacher does not, when they conduct research in the library; choose common citation builder to prepare them for middl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balance teaching roles: library skills, literature appreciation, research, Internet skills and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5th graders across the distri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 elementary school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gaps in knowledge to inform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epare students to meet grade 6 bench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4 students participated in proficiency survey I; 72% had attended their elementary school since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8 students participated in proficiency survey II; 74% had attended their elementary school since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skil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adept at using the online catalog and selecting search strate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nderstand the purpose of a call number but don’t always use their knowledge to find books on sh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7386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skill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2800" y="2103480"/>
            <a:ext cx="74214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Library resource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underst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an atlas, thesaurus, and gloss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the table of contents and ind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pyright date’s signific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ess familiar with an almanac: 65% (239) answered correctly; 52 students skipped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Identifying Genr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have solid strategies to identify the genre of a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difference between nonfiction and 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lear on the difference between autobiography and b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Bibliographies &amp; Citations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unsure of what constitutes a bibliography and its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nderstand that they must credit their sources and their work must be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at plagiarism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Results:  Computer use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of the Acceptable Use Policy i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ing knowledge of strategic Internet searching, evaluation and selection of search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should you do to evaluate a websit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9000" y="4191120"/>
            <a:ext cx="6964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21:09:20Z</dcterms:created>
  <dc:creator>Wellesley Public Schools</dc:creator>
  <dc:description/>
  <dc:language>en-US</dc:language>
  <cp:lastModifiedBy>Wellesley Public Schools</cp:lastModifiedBy>
  <dcterms:modified xsi:type="dcterms:W3CDTF">2013-05-24T02:04:30Z</dcterms:modified>
  <cp:revision>11</cp:revision>
  <dc:subject/>
  <dc:title>Library &amp; Research Skills Proficiency: 5th Grade</dc:title>
</cp:coreProperties>
</file>